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CF8-CB5B-447C-A04F-15EE2FBF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A0E-C251-47E6-901B-391F7A8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494-031E-4D5C-8EF2-24093B22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B1D-C7FA-47C9-99CA-123F7CFA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26A-D6AD-4FF9-9EDD-EBC2C12F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72D-459F-4879-B485-B8B836E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D72-2B5D-471E-A7DE-2EE6251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0C3-944E-4A6A-A672-B2769E3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0EA-B1F9-487E-8C51-85370815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215-4155-4CF3-8AC0-036C79D3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F20-75E4-45BB-8426-1E9AE8E1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01C-4ECC-45F7-A126-C353E57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BCF1-58E2-4BD1-9DAF-86FC8F285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kasnick.com/internet/racoon%2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Calibri"/>
                <a:ea typeface="宋体"/>
              </a:rPr>
              <a:t>爱蛋糕的浣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The raccoon who loved c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orded Sound" descr=""/>
          <p:cNvPicPr/>
          <p:nvPr/>
        </p:nvPicPr>
        <p:blipFill>
          <a:blip r:embed="rId2"/>
          <a:stretch/>
        </p:blipFill>
        <p:spPr>
          <a:xfrm>
            <a:off x="-1143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orded Sound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sethbarnes.com/blogphotos/sethbarnes/www/dump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No no! you cannot eat cake! You care a raccoon and raccoons eat garbage</a:t>
            </a: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没有没有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宋体"/>
              </a:rPr>
              <a:t>!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您不可能吃蛋糕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宋体"/>
              </a:rPr>
              <a:t>!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您是浣熊，并且浣熊吃垃圾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orded Sound" descr=""/>
          <p:cNvPicPr/>
          <p:nvPr/>
        </p:nvPicPr>
        <p:blipFill>
          <a:blip r:embed="rId1"/>
          <a:stretch/>
        </p:blipFill>
        <p:spPr>
          <a:xfrm>
            <a:off x="-121932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desktopscenes.com/Scenes%20from%20Big%20Sky%20Country%20(2003)/First%20Montana%20Sunse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e did this all day till the sun fell and the moon r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他整天做了此，太阳落，并且月亮上升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ent home to his garbage can and cr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回家了他的垃圾箱并且哭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orded Sound" descr=""/>
          <p:cNvPicPr/>
          <p:nvPr/>
        </p:nvPicPr>
        <p:blipFill>
          <a:blip r:embed="rId1"/>
          <a:stretch/>
        </p:blipFill>
        <p:spPr>
          <a:xfrm>
            <a:off x="-106668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apps.co.marion.or.us/imagegallery/Recycling%20Images/photogallery/garbage%20can_RGB.jpg"/>
          <p:cNvPicPr/>
          <p:nvPr/>
        </p:nvPicPr>
        <p:blipFill>
          <a:blip r:embed="rId2"/>
          <a:stretch/>
        </p:blipFill>
        <p:spPr>
          <a:xfrm>
            <a:off x="2438280" y="190512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orded Sound" descr=""/>
          <p:cNvPicPr/>
          <p:nvPr/>
        </p:nvPicPr>
        <p:blipFill>
          <a:blip r:embed="rId1"/>
          <a:stretch/>
        </p:blipFill>
        <p:spPr>
          <a:xfrm>
            <a:off x="-83808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virtuallyjulie.com/images/2004Babies/Raccoon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怎奈当时他得到理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But then he got a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-914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img2.timeinc.net/toh/i/steps/1107_paintroom/paint-room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他发现了油漆桶并且绘了自己所有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e found a bucket of paint and painted himself bl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orded Sound" descr=""/>
          <p:cNvPicPr/>
          <p:nvPr/>
        </p:nvPicPr>
        <p:blipFill>
          <a:blip r:embed="rId1"/>
          <a:stretch/>
        </p:blipFill>
        <p:spPr>
          <a:xfrm>
            <a:off x="-106668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www.catcrazy.info/black-c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因此他看了似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So that he looked like a c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orded Sound" descr=""/>
          <p:cNvPicPr/>
          <p:nvPr/>
        </p:nvPicPr>
        <p:blipFill>
          <a:blip r:embed="rId1"/>
          <a:stretch/>
        </p:blipFill>
        <p:spPr>
          <a:xfrm>
            <a:off x="-11430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blog.se-nse.net/wp-content/uploads/2008/11/cat_birthday_cake.jpg"/>
          <p:cNvPicPr/>
          <p:nvPr/>
        </p:nvPicPr>
        <p:blipFill>
          <a:blip r:embed="rId2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由于大家知道猫爱蛋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Because everyone knows cats love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The next day the raccoon went door to door disguised as a cat and ask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-9144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hercules-online.com/catalog/pics/President_Security_Door.jpg"/>
          <p:cNvPicPr/>
          <p:nvPr/>
        </p:nvPicPr>
        <p:blipFill>
          <a:blip r:embed="rId2"/>
          <a:stretch/>
        </p:blipFill>
        <p:spPr>
          <a:xfrm>
            <a:off x="2133720" y="1523880"/>
            <a:ext cx="4790880" cy="4791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浣熊的次日去挨门挨户假装作为猫和被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orded Sound" descr=""/>
          <p:cNvPicPr/>
          <p:nvPr/>
        </p:nvPicPr>
        <p:blipFill>
          <a:blip r:embed="rId1"/>
          <a:stretch/>
        </p:blipFill>
        <p:spPr>
          <a:xfrm>
            <a:off x="-13716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www.jplicks.com/images/CakeBatter.jpg"/>
          <p:cNvPicPr/>
          <p:nvPr/>
        </p:nvPicPr>
        <p:blipFill>
          <a:blip r:embed="rId2"/>
          <a:stretch/>
        </p:blipFill>
        <p:spPr>
          <a:xfrm>
            <a:off x="1752480" y="2486160"/>
            <a:ext cx="5438880" cy="4371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May I have some cake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“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5</a:t>
            </a: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月我有一些蛋糕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://rodentandwildlifecontrol.com/sitebuilder/images/sad_raccoon-261x1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-160020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并且每个人被回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each person answ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farm2.static.flickr.com/1342/539560905_f814d7427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Once there was a racc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曾经有浣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orded Sound" descr=""/>
          <p:cNvPicPr/>
          <p:nvPr/>
        </p:nvPicPr>
        <p:blipFill>
          <a:blip r:embed="rId2"/>
          <a:stretch/>
        </p:blipFill>
        <p:spPr>
          <a:xfrm>
            <a:off x="-9907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orded Sound" descr=""/>
          <p:cNvPicPr/>
          <p:nvPr/>
        </p:nvPicPr>
        <p:blipFill>
          <a:blip r:embed="rId1"/>
          <a:stretch/>
        </p:blipFill>
        <p:spPr>
          <a:xfrm>
            <a:off x="-152388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pawspetcare.biz/userimages/s_black-c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是您可以有蛋糕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宋体"/>
              </a:rPr>
              <a:t>!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您是这样一只逗人喜爱的小的猫，并且猫爱蛋糕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Yes you may have cake! You are such a cute little cat, and cats love cake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1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orded Sound" descr=""/>
          <p:cNvPicPr/>
          <p:nvPr/>
        </p:nvPicPr>
        <p:blipFill>
          <a:blip r:embed="rId1"/>
          <a:stretch/>
        </p:blipFill>
        <p:spPr>
          <a:xfrm>
            <a:off x="-106668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fcps.edu/islandcreekes/ecology/Mammals/Raccoon/fish-co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因此夜狡猾浣熊吃了蛋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So that night the cunning raccoon ate much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orded Sound" descr=""/>
          <p:cNvPicPr/>
          <p:nvPr/>
        </p:nvPicPr>
        <p:blipFill>
          <a:blip r:embed="rId1"/>
          <a:stretch/>
        </p:blipFill>
        <p:spPr>
          <a:xfrm>
            <a:off x="-9144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并且他是非常愉快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he was very hap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bojack.org/images/racco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He was always hung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他总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-129528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codinghorror.com/blog/images/garbage-dump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But he could eat nothing but garb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但他可能吃垃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-129528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yeye.us/images/DSCF2584-awwww!%20baby-16x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this made him very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5"/>
                </a:solidFill>
                <a:latin typeface="Calibri"/>
                <a:ea typeface="宋体"/>
              </a:rPr>
              <a:t>并且这使他非常哀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12193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121932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e did love to eat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他爱吃蛋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orded Sound" descr=""/>
          <p:cNvPicPr/>
          <p:nvPr/>
        </p:nvPicPr>
        <p:blipFill>
          <a:blip r:embed="rId1"/>
          <a:stretch/>
        </p:blipFill>
        <p:spPr>
          <a:xfrm>
            <a:off x="-106668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hercules-online.com/catalog/pics/President_Security_Door.jpg"/>
          <p:cNvPicPr/>
          <p:nvPr/>
        </p:nvPicPr>
        <p:blipFill>
          <a:blip r:embed="rId2"/>
          <a:stretch/>
        </p:blipFill>
        <p:spPr>
          <a:xfrm>
            <a:off x="2133720" y="1523880"/>
            <a:ext cx="4790880" cy="479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808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那么一天他去挨门挨户和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So one day he went door to door and ask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orded Sound" descr=""/>
          <p:cNvPicPr/>
          <p:nvPr/>
        </p:nvPicPr>
        <p:blipFill>
          <a:blip r:embed="rId1"/>
          <a:stretch/>
        </p:blipFill>
        <p:spPr>
          <a:xfrm>
            <a:off x="-106668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jplicks.com/images/CakeBatter.jpg"/>
          <p:cNvPicPr/>
          <p:nvPr/>
        </p:nvPicPr>
        <p:blipFill>
          <a:blip r:embed="rId2"/>
          <a:stretch/>
        </p:blipFill>
        <p:spPr>
          <a:xfrm>
            <a:off x="1600200" y="1515960"/>
            <a:ext cx="5638680" cy="453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“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5</a:t>
            </a: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月我有一些蛋糕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May I have some c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orded Sound" descr=""/>
          <p:cNvPicPr/>
          <p:nvPr/>
        </p:nvPicPr>
        <p:blipFill>
          <a:blip r:embed="rId1"/>
          <a:stretch/>
        </p:blipFill>
        <p:spPr>
          <a:xfrm>
            <a:off x="-76212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rodentandwildlifecontrol.com/sitebuilder/images/sad_raccoon-261x18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并且每个人被回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every person answ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51:12Z</dcterms:created>
  <dc:creator>itsuser</dc:creator>
  <dc:description/>
  <dc:language>en-US</dc:language>
  <cp:lastModifiedBy>itsuser</cp:lastModifiedBy>
  <dcterms:modified xsi:type="dcterms:W3CDTF">2009-03-05T17:26:06Z</dcterms:modified>
  <cp:revision>17</cp:revision>
  <dc:subject/>
  <dc:title>爱蛋糕的浣熊</dc:title>
</cp:coreProperties>
</file>